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51AE-5E93-4FA6-AB49-4073E413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D8D6-BA03-41B2-A02E-C0AACD92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FB48-179C-4B45-858C-877768AC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845A-11DB-469A-9082-EB0F1998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BE98-7D78-4279-BE5E-D7F76DB6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16B2-F2AA-4D17-9CAD-5B477013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711E-5702-40F1-8334-BCA50830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F364-545F-4CB1-8DA7-311673C3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012F-78B2-4FFE-88B8-2DAF1F8C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D5C2-6FAF-44CA-94CC-30DF151D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7141-1B7E-41E1-BA44-14E33CAB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C3C-CF7A-403A-85F6-571D5ADC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2BA7-E7D2-4060-97A9-8477F375B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513539ycDdZUpApJ_ph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72200" y="0"/>
            <a:ext cx="2666880" cy="88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ربّ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رعان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فلا شيء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يُعوِزُني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1722214aJLtUnFFfJ_ph" descr=""/>
          <p:cNvPicPr/>
          <p:nvPr/>
        </p:nvPicPr>
        <p:blipFill>
          <a:blip r:embed="rId1"/>
          <a:stretch/>
        </p:blipFill>
        <p:spPr>
          <a:xfrm>
            <a:off x="0" y="0"/>
            <a:ext cx="5748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91320" y="304920"/>
            <a:ext cx="3352680" cy="10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مراعٍ خصيبةٍ يُقيلني ومياهَ الراحة يورِدُ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ردُّ نفسي وسبُلَ البرِّ يهدي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513539ycDdZUpApJ_ph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5880" y="0"/>
            <a:ext cx="2743200" cy="88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ربّ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رعان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فلا شيء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يُعوِزُني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513720KKRTabSSPZ_ph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91320" y="0"/>
            <a:ext cx="335268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إني ولو سلكتُ في وادي ظال الموت لا أخافُ سوءاً لأنك معي عصاك وعُكّازُك هما يعزياني</a:t>
            </a:r>
            <a:r>
              <a:rPr b="0" lang="ar-SA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513539ycDdZUpApJ_ph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72200" y="0"/>
            <a:ext cx="2666880" cy="88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ربّ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رعان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فلا شيء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يُعوِزُني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09:36:20Z</dcterms:created>
  <dc:creator>SUZANNE.MD</dc:creator>
  <dc:description/>
  <dc:language>en-US</dc:language>
  <cp:lastModifiedBy>USER</cp:lastModifiedBy>
  <dcterms:modified xsi:type="dcterms:W3CDTF">2003-01-22T11:14:34Z</dcterms:modified>
  <cp:revision>2</cp:revision>
  <dc:subject/>
  <dc:title>PowerPoint Presentation</dc:title>
</cp:coreProperties>
</file>